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4272-56B9-491B-B688-08D782B7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CDE8-D17F-4CC2-B03C-9B5B1C9E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185D-086A-4D28-9CCF-DFABED97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7B58-AF46-426B-8AF3-427A7063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913D-F86E-4855-A191-C515A40E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8B4E-96AB-4641-A58F-11F0E63B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DC35-2976-497C-909C-C823D619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6E71-E242-4BC0-B289-7AA8A2A4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892F-BC63-4DDD-B3C7-9E42BE74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0255-709D-403F-AB92-B294213F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8C41-B525-4B91-9EA1-2EF265AF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FC56-85B7-482E-A52B-784B9232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0026-555C-46DE-9884-8D81FA6BC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ADB8-1BF6-4188-93D0-DE9115B14B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052640"/>
            <a:ext cx="8101080" cy="4895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Эти процессы, с другой стороны, могут находиться не на самом верхнем уровне моде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ри этом сущность этих данных и их интерпретация для рассматриваемых процессов совершенно не важ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99DB-5F59-4085-87FE-5CA7316001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828000"/>
            <a:ext cx="8426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Уровень приложения (Application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 интерфейс с прикладными процесс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Уровень представления (Presentation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 согласование представления (форматов, кодировок) данных прикладных процесс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Сеансовый уровень (Session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 установление, поддержка и закрытие логического сеанса связи между удаленными процесс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1247400"/>
            <a:ext cx="788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Транспортный уровень (Transport) -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 обеспечение безошибочного сквозного обмена потоками данных между процессами во время сеан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Сетевой уровень (Network) -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 фрагментация и сборка передаваемых транспортным уровнем данных, маршрутизация и продвижение их по сети от компьютера-отправителя к компьютеру-получател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AD32-B5ED-4383-8852-EB3DA0DAAF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1341360"/>
            <a:ext cx="7813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Канальный уровень (Data Link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 управление каналом передачи данных, управление доступом к среде передачи, передача данных по каналу, обнаружение ошибок в канале и их коррекц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Физический уровень (Physical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 физический интерфейс с каналом передачи данных, представление данных в виде физических сигналов и их кодирование (модуляция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3884-AFB3-4F98-82FB-43F8761764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09680"/>
            <a:ext cx="8172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. Инкапсуляция и обработка пак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При продвижении пакета данных по уровням сверху вниз каждый новый уровень добавляет к пакету свою служебную информацию в виде заголовка и, возможно, трейлера. Эта операция называется инкапсуляцией данных верхнего уровня в пакете нижнего уровня. Служебная информация предназначается для объекта того же уровня на удаленном компьютере, ее формат и интерпретация определяются протоколом данного уров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5B8B-7497-46AF-93BC-F8D0CC6CD3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1828080"/>
            <a:ext cx="820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Модель OSI предложена достаточно давно, однако протоколы, на ней основанные, используются редко, во-первых, в силу своей не всегда оправданной сложности, во-вторых , из-за существования хотя и не соответствующих строго модели OSI, но уже хорошо зарекомендовавших себя стеков протоколов (например, TCP/I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65A7-2CBE-4A34-A5A2-A0AF055DF2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2000" y="2100600"/>
            <a:ext cx="78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3. Стек протоколов TCP/IP 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это собирательное название для набора (стека) сетевых протоколов разных уровней, используемых в Интерн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B3C2-57EF-476A-924B-2B08B5DF4B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640" y="873000"/>
            <a:ext cx="7885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Особенности TCP/IP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- открытые стандарты протоколов, разрабатываемые независимо от программного и аппаратного обеспеч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независимость от физической среды передач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- система уникальной адреса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стандартизованные протоколы высокого уровня для распространенных пользовательских серви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F7C5-17B4-45BB-8325-63DCD35E00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1268280"/>
            <a:ext cx="8243640" cy="439272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Стек протоколов TCP/IP делится на 4 уров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- прикладной (applicatio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- транспортный (transpor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- межсетевой (interne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- уровень доступа к среде передачи (network acces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1965-E2F0-4CAC-A6AD-A304B62196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1640" y="657360"/>
            <a:ext cx="8317080" cy="5435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Уровень при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Приложения, работающие со стеком TCP/IP, могут также выполнять функции уровней представления и частично сеансового модели OSI; например, преобразование данных к внешнему представлению, группировка данных для передачи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Распространенными примерами приложений являются программы telnet, ftp, HTTP-серверы и клиенты (WWW-броузеры), программы работы с электронной почт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920" y="1233360"/>
            <a:ext cx="849600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 1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Стеки сетевых протоколов</a:t>
            </a: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FF96-CC37-42B0-B5F6-9CE24B0019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3280" y="1916280"/>
            <a:ext cx="8209080" cy="3563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Транспортный урове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Протоколы транспортного уровня обеспечивают прозрачную (сквозную) доставку данных (end-to-end delivery service) между двумя прикладными процесс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657360"/>
            <a:ext cx="849636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305E-D655-4379-B82D-4C5026C9E4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640" y="1881360"/>
            <a:ext cx="7993080" cy="42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530280" indent="-254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Процесс, получающий или отправляющий данные с помощью транспортного уровня, идентифицируется на этом уровне номером, который называется номером пор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3C8B-DECE-4090-9D0D-C3F14E26F1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6360" y="1160640"/>
            <a:ext cx="8064360" cy="47894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На транспортном уровне работают два основных протокол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UDP и TC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TCP (Transmission Control Protocol - протокол контроля передачи) -</a:t>
            </a: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 надежный протокол с установлением соедин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F1DA-9E64-46CB-9C4B-572C6286A1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1015920"/>
            <a:ext cx="7777080" cy="486108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4. Протокол UD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UDP (User Datagram Protocol, протокол пользовательских дейтаграмм) фактически не выполняет каких-либо особых функций дополнительно к функциям межсетевого уров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AFD6-B918-42F8-9B5E-61E7A98196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1640" y="1015920"/>
            <a:ext cx="8317080" cy="48974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токол UDP использу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либо при пересылке коротких сообщений, когда накладные расходы на установление сеанса и проверку успешной доставки данных оказываются выше расходов на повторную (в случае неудачи) пересылку сообщ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либо в том случае, когда сама организация процесса-приложения обеспечивает установление соединения и проверку доставки пакетов (например, NFS).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6938-3243-4760-9CDC-78697F7479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744840"/>
            <a:ext cx="817272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ahoma"/>
              </a:rPr>
              <a:t>Значения поле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Source Port - номер порта процесса-отправи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Destination Port - номер порта процесса-получа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Length - длина UDP-пакета вместе с заголовком в октет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Checksum - контрольная сумма. Контрольная сумма вычисляется таким же образом, как и в TCP-заголовке (см. п. 3.2); если UDP-пакет имеет нечетную длину, то при вычислении контрольной суммы к нему добавляется нулевой окт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27E3-4C0F-4274-9059-61D2AA61EC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8920" y="1703160"/>
            <a:ext cx="853272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токол UDP не имеет никаких средств подтверждения безошибочного приема данных или сообщения об ошибке, не обеспечивает приход сообщений в порядке отправки, не производит предварительного установления сеанса связи между прикладными процессами, поэтому он является ненадежным протоколом без установления соед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1640" y="40428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Межсетевой уровень и протокол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7040" y="2060280"/>
            <a:ext cx="793116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bbe0e3"/>
                </a:solidFill>
                <a:latin typeface="Tahoma"/>
              </a:rPr>
              <a:t>-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ротокол IP доставляет блоки данных, называемых дейтаграммами, от одного IP-адреса к другому. IP-адрес является уикальным 32-битным идентификатором компьютера (точнее, его сетевого интерфейс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55280" y="1233000"/>
            <a:ext cx="77770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Данные для дейтаграммы передаются IP-модулю транспортным уровнем. IP-модуль предваряет эти данные заголовком, содержащим IP-адреса отправителя и получателя и другую служебную информацию, и сформированная таким образом дейтаграмма передается на уровень доступа к среде передачи (например, одному из физических интерфейсов) для отправки по каналу передачи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4000" y="1628640"/>
            <a:ext cx="79563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Модуль IP может отправить компьютеру-источнику этой дейтаграммы уведомление об ошибке; такие уведомления отправляются с помощью протокола ICMP, являющегося неотъемлемой частью модуля.</a:t>
            </a: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31280" y="1520640"/>
            <a:ext cx="8121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1) Уровни модели 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2) Инкапсуляция и обработка пак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3) Стек протоколов TCP/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4) Протокол IP и функции этого протоко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5) Протокол UD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6) Вопросы для самопрове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7) Рекомендуемая литература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1.    Опишите функции слоев стека TCP/IP и их взаимосвя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2.    Что такое маска с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3.    В чем состоит сущность процесса IP-маршрут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4.    Каковы задачи протокола IP? TCP? В чем их отличие друг от друг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5.    Каковы недостатки протокола IP? Подходы к их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6.    Каковы недостатки протокола TCP? Подходы к их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7.    Как приложение взаимодействует со стеком TCP/IP?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-5601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oyle J. "Routing TCP/IP. Volume I" – Cisco Press,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005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8868-3040-4EE8-9AF3-0934233D77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6360" y="1125360"/>
            <a:ext cx="7993080" cy="5004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1.1  Семиуровневая модель 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Модель OSI (Open System Interconnect Reference Model, Эталонная модель взаимодействия открытых систем) представляет собой универсальный стандарт на взаимодействие двух систем (компьютеров) через вычислительную се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7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 Уровни модели 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564D-8903-4C0A-9612-1D045144BE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413000"/>
            <a:ext cx="8064360" cy="4572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Каждый уровень определяется сервисом, который он предоставляет вышестоящему уровню, и протоколом - набором правил и форматов данных для взаимодействия между собой объектов одного уровня, работающих на разных компьютерах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7281-C5A5-4E44-A7C4-9471FB6D2F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484280"/>
            <a:ext cx="7921440" cy="39974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Модель построена так, что объекты одного уровня двух взаимодействующих компьютеров сообщаются непосредственно друг с другом с помощью соответствующих протоколов, не зная, какие уровни лежат под ними и какие функции они выполняю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5ABE-8C4F-4112-BEF6-0842FE9FC8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9280" y="1628640"/>
            <a:ext cx="784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Задача объектов - предоставить через стандартизованный интерфейс определенный сервис вышестоящему уровню, воспользовавшись, если нужно, сервисом, который предоставляет данному объекту нижележащий уровень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8B74-B6E8-40B2-A8B8-3D82A6EC85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413000"/>
            <a:ext cx="8209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640" y="1448280"/>
            <a:ext cx="788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Через стандартизованный интерфейс процесс-отправитель передает данные нижнему уровню, который предоставляет процессу сервис по пересылке данных, а процесс-получатель через такой же стандартизованный интерфейс получает эти данные от нижнего уров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5D4D-DB57-49DD-8011-74519BAB6D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800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1736640"/>
            <a:ext cx="792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При этом ни один из процессов не знает и не имеет необходимости знать, как именно осуществляет передачу данных протокол нижнего уровня, сколько еще уровней находится под ним, какова физическая среда передачи данных и каким путем они движут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Maxim</cp:lastModifiedBy>
  <dcterms:modified xsi:type="dcterms:W3CDTF">2009-01-12T10:26:52Z</dcterms:modified>
  <cp:revision>135</cp:revision>
  <dc:subject/>
  <dc:title>Lecture Template </dc:title>
</cp:coreProperties>
</file>